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737-331E-4FF9-8D20-3A5C5975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FB2-07D2-45C7-A5C2-5B01E862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7E2-B135-4D34-818C-846C451E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C1C-4508-4EB9-950B-2936F58A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798-B5E6-47E7-B83B-9E2D3B6E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6D0-EEA1-4CFE-98B0-92FB66E8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FEC-D73C-4A33-B504-13456F9A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55E-262A-478E-847F-BE5A746E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04F-FD84-445F-BF64-C7CE1750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64C-6B0A-41EE-8F08-699758F5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D9B-3DC5-41F3-92C3-DAEEE45D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1ED-C0CB-48E6-BEBB-E3084947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A1B4-8843-4CAC-8DE4-F4DBA175C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 2008_2009 Q1 L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, Lists, Validati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 (html node struc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zichten naar het bo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ndeld wor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 structuur: node rel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ken aan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9:55:48Z</dcterms:created>
  <dc:creator>Arjo Post</dc:creator>
  <dc:description/>
  <dc:language>en-US</dc:language>
  <cp:lastModifiedBy>Arjo Post</cp:lastModifiedBy>
  <dcterms:modified xsi:type="dcterms:W3CDTF">2008-09-15T09:14:32Z</dcterms:modified>
  <cp:revision>4</cp:revision>
  <dc:subject/>
  <dc:title>FED 2008_2009 Q1 Les2</dc:title>
</cp:coreProperties>
</file>