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EE3-108E-4A34-851F-F49D51CB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FF5-F282-4A4F-BF6C-FC67180E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0D3-01EB-4B05-8E0A-4F1A4E0A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968-5601-41E7-9B5A-A1F7DD9F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E7EE-C43C-491E-BCCE-17588202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0B2F-51A6-4E15-AFDB-8009536C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DFAB-1BE2-45A9-88A5-DFD2F183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A554-D5CA-436C-A5C9-99EFD2F8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E3D1-5AA2-4E84-B2FF-01FBAC3B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4C00-8E55-4901-A337-AE1D4A9C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8B3A-C4B4-43A5-94B3-9C3A4AD1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95B-1C09-4934-8325-3BBF1775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83FB-FC44-4F2F-BF8A-FC473083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A780-FD39-4D85-BEF9-F25C25CB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0FE7-FB31-4611-B357-A497EDCF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F853-EB65-413F-A0B6-2462AC30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36DE-0CF1-4F82-A4FF-593345E6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BDD-97C2-4B9B-8142-1028339C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907-14AF-4F11-B6DD-DB289EC0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A54-A9AF-4F43-B991-1D97ADC7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BDA-C4FA-42F8-B8BD-B8321293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388-1F2A-4545-9459-8E8431C6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70E-589D-41E5-A923-7E933BD3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DFF-979C-4328-93E8-050B2C18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32FA-22BF-4589-92FE-7B55A7E6CD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5037-3B4C-43AB-9331-643FC7AF72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entside DOM Scripting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et Javascrip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08/2009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ar1 Kwartaal2 Les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Variabele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er om “iets” tijdelijk te onthou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amgeving belangrij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se sensi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bruik logische na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melCase handig (myFirstStringV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“loose typing” (datatype niet verplicht opgeven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niet strict, declaratie vooraf niet nodig maar wel zo netjes (var gebruike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Express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itdruk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ithmetic: evaluates to a number, for examp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ing: evaluates to a character string, for example "Fred" or "234"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ical: evaluates to true or fal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ie ook http://lib.ru/JAVA/javascr/expr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: alert, confirm, prom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eren dialog box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rt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EN return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fir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p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gelijkheid om tekst in te 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opdra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raag om naam bij lade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ingevulde naam als &lt;h1&gt; koptek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10 teksten achter elkaar via een alert bij laden va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at gebruiker bij laden van pagina 2 getallen in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 deze getallen bij elkaar op en toon het resul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t is een Client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lient is een computer in een netwerk die zich op dat netwerk gedraagt als een klant: hij haalt informatie op van een serve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omputer wordt een client door bepaalde programma’s die daar op draaien zoals Firefox (browser) en Outlook (mai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 Clien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anden worden welliswaar van webserver gehaald maar de inhoud wordt lokaal in de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S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ash sw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koppe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e: zoals met CS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lt;script type=“text/javascript” src=“bestand.js”&gt;&lt;/script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katie javascript best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hankelijk van doe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head&gt; section: javascript wordt uitgevoerd tijdens laden van &lt;head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body&gt; section: javascript wordt uitgevoerd tijdens laden van &lt;body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derop, tussen &lt;/head&gt; en &lt;/body&gt;: javascript wordt uitgevoerd als gehele pagina in de browser s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s: altijd afvragen wanneer je wat uit wilt vo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en, methoden en AP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 DOM object = docu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e = wr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en en methodes te vinden via  javascript references (API-references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I = Application Programming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ie http://www.gotapi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XHTML stri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script type="text/javascript"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!-- &lt;![CDATA[ Afschermen voor oude brow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/ ]]&gt; Einde afscherming --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Commentaa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entaar in code = belangrijk voor ontwikkelaa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niet door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manier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regel //dit is commenta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* start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inde blok *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Datatyp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ing (= tekst, alles tussen quot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(= numerieke gegevens, getal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olean (= schakelaar, aan of uit, true/fal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ijn er meer maar die worden later behand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5:49:30Z</dcterms:created>
  <dc:creator>Arjo Post</dc:creator>
  <dc:description/>
  <dc:language>en-US</dc:language>
  <cp:lastModifiedBy>Arjo Post</cp:lastModifiedBy>
  <dcterms:modified xsi:type="dcterms:W3CDTF">2008-11-24T08:40:21Z</dcterms:modified>
  <cp:revision>3</cp:revision>
  <dc:subject/>
  <dc:title>Clientside DOM Scripting met Javascript</dc:title>
</cp:coreProperties>
</file>